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6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5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46.jpeg" ContentType="image/jpeg"/>
  <Override PartName="/ppt/media/image50.png" ContentType="image/png"/>
  <Override PartName="/ppt/media/image51.png" ContentType="image/png"/>
  <Override PartName="/ppt/media/image52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56.png" ContentType="image/png"/>
  <Override PartName="/ppt/media/image37.jpeg" ContentType="image/jpeg"/>
  <Override PartName="/ppt/media/image30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42.jpeg" ContentType="image/jpeg"/>
  <Override PartName="/ppt/media/image1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5"/>
          </p:nvPr>
        </p:nvSpPr>
        <p:spPr>
          <a:xfrm>
            <a:off x="5180040" y="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2857680" y="-532080"/>
            <a:ext cx="3427200" cy="466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37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26F0D0-7A3C-466D-B072-FD1421CCDE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2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379411-42CE-4D60-BBC9-EFF9085145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2511A6-58E8-4945-81A9-46E8D366F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E9C17B-871F-4BF6-AFD9-A107A2925D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1AED84-890E-48E3-A27A-C1C512B27E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21FF98-F431-41DA-8F22-58FFDD8CC3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61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52950F-52EB-447A-A942-AB94AE6AB2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5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AC5D2D-6C5D-4ACF-B6FC-57722E6101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8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B90CED-602A-4148-92A2-6C08249341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31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B394BD-DF32-4664-97E1-4C8627FB70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34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8A6BCA-C0F7-4748-8334-6E5F35A514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37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45B4F7-E4F9-4CDC-B959-1A6160226E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40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A2E5B6-738F-4661-81BA-ADC23B78C1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43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C958C1-90F5-422E-A0AA-8B24656F79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46" name="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0878EB-63FB-46DA-98F0-6251F4B4D4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5AEE-F87C-4BD0-B3D8-6BD5C0C58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3580-84CD-4ECF-B996-5D32D72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FAAF-E30F-4E45-B050-5FBA79B1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7C458-3BAF-4DC0-AC10-D233410C7F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EA261-7F7E-4FCD-9955-821F51CD8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D8A8F-5EBB-4ECD-BDE5-0055785C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6AF4E-647B-4597-99B5-72A9CED4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270DB-81A1-4C37-8F43-0BEE67EA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1521B-678B-494E-90D5-51B5B9F4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D5D22-634D-4CD8-A118-1B1E43ED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B06A6-D2DD-4C9D-BA3F-5611D095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F79F6-5CB2-4213-A527-390C7A0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BC198-E44C-4333-B835-628EF9CB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90ABD-8692-4FFE-AC2A-A2CA6EF0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731AA-4F92-45A2-8E0C-BF5BED9E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FC86F-9261-4EE6-9CC6-A3691E07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8270E-F803-457A-B574-A2084BFBD7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F617-5ADD-495A-B6AE-92153D02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AAD8-0BB7-4C62-8D4F-57AFF5B7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F98F-5008-47B3-9B25-5B1DC974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7866-DF6C-452B-B0FE-9078A9AE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6998-1DFE-4240-9173-16025591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B82CB-B650-4877-A1F7-E665C463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4B80-D9E4-4855-A737-65B9D931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5E13A6-7B38-4B27-B3C8-AF34ACBE258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B4EA53-2913-42AA-AE83-183BDBFDC5F4}" type="slidenum">
              <a:rPr b="0" lang="ru-RU" sz="1200" spc="-1" strike="noStrike">
                <a:solidFill>
                  <a:srgbClr val="045c75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32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4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4.jpeg"/><Relationship Id="rId8" Type="http://schemas.openxmlformats.org/officeDocument/2006/relationships/image" Target="../media/image54.jpeg"/><Relationship Id="rId9" Type="http://schemas.openxmlformats.org/officeDocument/2006/relationships/image" Target="../media/image54.jpe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28800" y="0"/>
            <a:ext cx="7758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27000" y="0"/>
            <a:ext cx="7790040" cy="6742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643960" y="6572160"/>
            <a:ext cx="5000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571680" y="1143000"/>
            <a:ext cx="3857400" cy="2643120"/>
            <a:chOff x="571680" y="1143000"/>
            <a:chExt cx="3857400" cy="2643120"/>
          </a:xfrm>
        </p:grpSpPr>
        <p:pic>
          <p:nvPicPr>
            <p:cNvPr id="178" name="" descr=""/>
            <p:cNvPicPr/>
            <p:nvPr/>
          </p:nvPicPr>
          <p:blipFill>
            <a:blip r:embed="rId2">
              <a:lum contrast="10000"/>
            </a:blip>
            <a:stretch/>
          </p:blipFill>
          <p:spPr>
            <a:xfrm>
              <a:off x="571680" y="1143000"/>
              <a:ext cx="385740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71680" y="1143000"/>
              <a:ext cx="3857400" cy="26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714920" y="3857760"/>
            <a:ext cx="4143240" cy="2714400"/>
            <a:chOff x="4714920" y="3857760"/>
            <a:chExt cx="4143240" cy="271440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4714920" y="3857760"/>
              <a:ext cx="4143240" cy="27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714920" y="3857760"/>
              <a:ext cx="4143240" cy="27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1214280"/>
            <a:ext cx="44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ы помним Вас, погибшие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белые бантики, и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звон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портзал, террорист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громкие сто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И так не начавшийся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760" y="4143240"/>
            <a:ext cx="421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ет горя страшней для отцов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тер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 оплакивать своих сынов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 дочер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212840" y="-103320"/>
            <a:ext cx="707220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14680" y="-793800"/>
            <a:ext cx="585756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429080" y="1143000"/>
            <a:ext cx="4357800" cy="2786040"/>
            <a:chOff x="4429080" y="1143000"/>
            <a:chExt cx="4357800" cy="278604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29080" y="1143000"/>
              <a:ext cx="4357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429080" y="1143000"/>
              <a:ext cx="435780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0040" y="4286160"/>
            <a:ext cx="3500640" cy="2352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00720" y="4143240"/>
            <a:ext cx="442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, что случилось с детьм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Беслане  - мы помн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т, кто сделал это - прокля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навсег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т, кто безразличен к этом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бесчеловеч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Тот, кто помог им - наш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УЗЬЯ</a:t>
            </a: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8684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359000" y="-103320"/>
            <a:ext cx="6784920" cy="11829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500040" y="1071720"/>
            <a:ext cx="3643200" cy="3143160"/>
            <a:chOff x="500040" y="1071720"/>
            <a:chExt cx="3643200" cy="3143160"/>
          </a:xfrm>
        </p:grpSpPr>
        <p:pic>
          <p:nvPicPr>
            <p:cNvPr id="194" name="" descr=""/>
            <p:cNvPicPr/>
            <p:nvPr/>
          </p:nvPicPr>
          <p:blipFill>
            <a:blip r:embed="rId5"/>
            <a:srcRect l="0" t="4543" r="0" b="0"/>
            <a:stretch/>
          </p:blipFill>
          <p:spPr>
            <a:xfrm>
              <a:off x="500040" y="1071720"/>
              <a:ext cx="364320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00040" y="1071720"/>
              <a:ext cx="364320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rcRect l="0" t="0" r="4347" b="0"/>
          <a:stretch/>
        </p:blipFill>
        <p:spPr>
          <a:xfrm>
            <a:off x="5572080" y="4786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28760" y="7858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786120" y="78588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858000" y="785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6"/>
          <a:stretch/>
        </p:blipFill>
        <p:spPr>
          <a:xfrm>
            <a:off x="3286080" y="5000760"/>
            <a:ext cx="2143080" cy="1571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7"/>
          <a:stretch/>
        </p:blipFill>
        <p:spPr>
          <a:xfrm>
            <a:off x="214200" y="5000760"/>
            <a:ext cx="2857680" cy="1571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8"/>
          <a:stretch/>
        </p:blipFill>
        <p:spPr>
          <a:xfrm>
            <a:off x="357120" y="3143160"/>
            <a:ext cx="2214720" cy="1857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554040" y="712800"/>
            <a:ext cx="8035920" cy="824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0"/>
          <a:stretch/>
        </p:blipFill>
        <p:spPr>
          <a:xfrm>
            <a:off x="2714760" y="314316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1"/>
          <a:stretch/>
        </p:blipFill>
        <p:spPr>
          <a:xfrm>
            <a:off x="5643720" y="3143160"/>
            <a:ext cx="3214440" cy="1606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2"/>
          <a:stretch/>
        </p:blipFill>
        <p:spPr>
          <a:xfrm>
            <a:off x="360360" y="426960"/>
            <a:ext cx="8570880" cy="6126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1646280" y="-96840"/>
            <a:ext cx="642456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14240" y="1000080"/>
            <a:ext cx="8072640" cy="5643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«Хоть чашечку, стаканчик, ну хоть глоток Воды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Последнее желанье, последний крик ду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«Ну, дайте нам водички! Воды! Воды! Воды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А вечером, второго, заснуть все не мог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И пить уж не хотели, и съели все цве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Вдруг разговор о смерти тихонько зав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Мальчишка им поведал историю о 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Что ангелов красивых  недавно видел о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«Летели и смеялись, со шлейфами он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И на детей похожи:  наверно – это мы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Мы полетим далеко, на небо, прямо в 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onstantia"/>
                <a:ea typeface="SimSun"/>
              </a:rPr>
              <a:t>Ведь умирать не страшно, не плачь, не уныва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360360" y="0"/>
            <a:ext cx="8813880" cy="11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286680" y="928800"/>
            <a:ext cx="2857320" cy="1785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0" y="928800"/>
            <a:ext cx="3143160" cy="1785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143160" y="928800"/>
            <a:ext cx="3143520" cy="1857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572000" y="4429080"/>
            <a:ext cx="4572000" cy="2428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0" y="2714760"/>
            <a:ext cx="3214800" cy="1714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3214800" y="2714760"/>
            <a:ext cx="3071880" cy="17143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8"/>
          <a:stretch/>
        </p:blipFill>
        <p:spPr>
          <a:xfrm>
            <a:off x="0" y="4429080"/>
            <a:ext cx="4643280" cy="2428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6286680" y="2714760"/>
            <a:ext cx="2857320" cy="1714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500040" y="-212760"/>
            <a:ext cx="8358120" cy="1541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1"/>
          <a:stretch/>
        </p:blipFill>
        <p:spPr>
          <a:xfrm>
            <a:off x="1835280" y="1139760"/>
            <a:ext cx="5608440" cy="52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nodeType="click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nodeType="click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nodeType="click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nodeType="click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712800"/>
            <a:ext cx="26002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143240"/>
            <a:ext cx="260028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20720" y="179280"/>
            <a:ext cx="7559640" cy="6000840"/>
            <a:chOff x="720720" y="179280"/>
            <a:chExt cx="7559640" cy="60008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720720" y="179280"/>
              <a:ext cx="7559640" cy="60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20720" y="179280"/>
              <a:ext cx="755964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42960"/>
            <a:ext cx="7215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3320" y="4572000"/>
            <a:ext cx="8827920" cy="2286000"/>
            <a:chOff x="103320" y="4572000"/>
            <a:chExt cx="8827920" cy="22860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103320" y="4572000"/>
              <a:ext cx="88279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03320" y="4572000"/>
              <a:ext cx="88279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143680" y="221616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14200" y="2000160"/>
            <a:ext cx="4357800" cy="2714760"/>
            <a:chOff x="214200" y="2000160"/>
            <a:chExt cx="4357800" cy="271476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rcRect l="3033" t="11112" r="3033" b="12961"/>
            <a:stretch/>
          </p:blipFill>
          <p:spPr>
            <a:xfrm>
              <a:off x="214200" y="2000160"/>
              <a:ext cx="435780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4200" y="2000160"/>
              <a:ext cx="435780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713120" y="2000160"/>
            <a:ext cx="4287960" cy="2714760"/>
            <a:chOff x="4713120" y="2000160"/>
            <a:chExt cx="4287960" cy="2714760"/>
          </a:xfrm>
        </p:grpSpPr>
        <p:pic>
          <p:nvPicPr>
            <p:cNvPr id="123" name="" descr=""/>
            <p:cNvPicPr/>
            <p:nvPr/>
          </p:nvPicPr>
          <p:blipFill>
            <a:blip r:embed="rId4"/>
            <a:srcRect l="0" t="11107" r="0" b="12966"/>
            <a:stretch/>
          </p:blipFill>
          <p:spPr>
            <a:xfrm>
              <a:off x="4713120" y="2000160"/>
              <a:ext cx="428796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713120" y="2000160"/>
              <a:ext cx="42879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073160" y="-115920"/>
            <a:ext cx="735804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00760" y="-1092240"/>
            <a:ext cx="4000320" cy="7664400"/>
          </a:xfrm>
          <a:prstGeom prst="rect">
            <a:avLst/>
          </a:prstGeom>
          <a:solidFill>
            <a:srgbClr val="5ef0f7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</a:t>
            </a: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Выстрелы. Стоны. Плач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В школу пришёл Палач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Никто не думал, не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      гадал…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Но… «Час Х» уже настал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Боевики никого не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    щадили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Взрослых, детей они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захватили.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В спортзале, как в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консервной банке,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                   закрыли,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И бомбы, как игрушки,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Constantia"/>
                <a:ea typeface="SimSun"/>
              </a:rPr>
              <a:t>            в углах разложили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57120" y="642960"/>
            <a:ext cx="4572000" cy="5929200"/>
            <a:chOff x="357120" y="642960"/>
            <a:chExt cx="4572000" cy="592920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rcRect l="6574" t="6420" r="9327" b="4737"/>
            <a:stretch/>
          </p:blipFill>
          <p:spPr>
            <a:xfrm>
              <a:off x="357120" y="642960"/>
              <a:ext cx="4572000" cy="592920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642960"/>
              <a:ext cx="4572000" cy="59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-738360" y="-68400"/>
            <a:ext cx="7218360" cy="9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428760" y="1643040"/>
            <a:ext cx="4429080" cy="2928960"/>
            <a:chOff x="428760" y="1643040"/>
            <a:chExt cx="4429080" cy="29289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28760" y="1643040"/>
              <a:ext cx="442908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28760" y="1643040"/>
              <a:ext cx="442908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929120" y="1643040"/>
            <a:ext cx="4071960" cy="2928960"/>
            <a:chOff x="4929120" y="1643040"/>
            <a:chExt cx="4071960" cy="2928960"/>
          </a:xfrm>
        </p:grpSpPr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4929120" y="1643040"/>
              <a:ext cx="407196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929120" y="1643040"/>
              <a:ext cx="40719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26960" y="212760"/>
            <a:ext cx="8577360" cy="132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365040" y="4548240"/>
            <a:ext cx="864576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  <a:ea typeface="SimSu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14240" y="1357200"/>
            <a:ext cx="3857760" cy="3000600"/>
            <a:chOff x="714240" y="1357200"/>
            <a:chExt cx="3857760" cy="300060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714240" y="1357200"/>
              <a:ext cx="385776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4240" y="1357200"/>
              <a:ext cx="3857760" cy="30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643280" y="1357200"/>
            <a:ext cx="4214880" cy="3000600"/>
            <a:chOff x="4643280" y="1357200"/>
            <a:chExt cx="4214880" cy="300060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4643280" y="1357200"/>
              <a:ext cx="421488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643280" y="1357200"/>
              <a:ext cx="4214880" cy="30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27000" y="0"/>
            <a:ext cx="7716960" cy="132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78000" y="4425840"/>
            <a:ext cx="8577000" cy="20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714240" y="1214280"/>
            <a:ext cx="2286000" cy="2928960"/>
            <a:chOff x="714240" y="1214280"/>
            <a:chExt cx="2286000" cy="2928960"/>
          </a:xfrm>
        </p:grpSpPr>
        <p:pic>
          <p:nvPicPr>
            <p:cNvPr id="149" name="" descr=""/>
            <p:cNvPicPr/>
            <p:nvPr/>
          </p:nvPicPr>
          <p:blipFill>
            <a:blip r:embed="rId2">
              <a:lum bright="10000"/>
            </a:blip>
            <a:stretch/>
          </p:blipFill>
          <p:spPr>
            <a:xfrm>
              <a:off x="714240" y="1214280"/>
              <a:ext cx="228600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14240" y="1214280"/>
              <a:ext cx="228600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000080" y="-122400"/>
            <a:ext cx="7358040" cy="1633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143160" y="1214280"/>
            <a:ext cx="5715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 сентября 2004 года оборвалась жизнь прекрасного человека и педагог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вана Константиновича Канид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, ценой собственной жизни спасавшего детей в захваченной боевиками школе Бес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Беслане в конце декабря 2009 года откроется школа-интернат со спортивным уклон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мени Ивана Каниди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, учителя физкультуры школы №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57840" y="4000680"/>
            <a:ext cx="4071960" cy="2500200"/>
            <a:chOff x="4857840" y="4000680"/>
            <a:chExt cx="4071960" cy="250020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rcRect l="0" t="11426" r="0" b="14290"/>
            <a:stretch/>
          </p:blipFill>
          <p:spPr>
            <a:xfrm>
              <a:off x="4857840" y="4000680"/>
              <a:ext cx="4071960" cy="25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857840" y="4000680"/>
              <a:ext cx="407196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00040" y="4286160"/>
            <a:ext cx="44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то ж он, такой бесчеловеч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дь даже зверь не уби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р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 всех пусть канет в плам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ч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акого не простить грех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28760" y="1143000"/>
            <a:ext cx="4500360" cy="3000240"/>
            <a:chOff x="428760" y="1143000"/>
            <a:chExt cx="4500360" cy="30002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428760" y="1143000"/>
              <a:ext cx="450036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28760" y="1143000"/>
              <a:ext cx="450036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000760" y="1143000"/>
            <a:ext cx="4000320" cy="3000240"/>
            <a:chOff x="5000760" y="1143000"/>
            <a:chExt cx="4000320" cy="300024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5000760" y="1143000"/>
              <a:ext cx="4000320" cy="30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00760" y="1143000"/>
              <a:ext cx="4000320" cy="30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60360" y="-122400"/>
            <a:ext cx="8955000" cy="1536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28760" y="4143240"/>
            <a:ext cx="3643200" cy="2428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429080" y="44290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ка мы боль чужую чувств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ка живет в нас сострадан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Пока живем, мечтаем, буйству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Есть в нашей жизни оправ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12800" y="0"/>
            <a:ext cx="7974000" cy="1500120"/>
            <a:chOff x="712800" y="0"/>
            <a:chExt cx="7974000" cy="1500120"/>
          </a:xfrm>
        </p:grpSpPr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712800" y="0"/>
              <a:ext cx="79740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12800" y="0"/>
              <a:ext cx="797400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65040" y="4200480"/>
            <a:ext cx="8493120" cy="2444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80960" y="0"/>
            <a:ext cx="81820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500040" y="1071720"/>
            <a:ext cx="3857760" cy="2928960"/>
            <a:chOff x="500040" y="1071720"/>
            <a:chExt cx="3857760" cy="2928960"/>
          </a:xfrm>
        </p:grpSpPr>
        <p:pic>
          <p:nvPicPr>
            <p:cNvPr id="172" name="" descr=""/>
            <p:cNvPicPr/>
            <p:nvPr/>
          </p:nvPicPr>
          <p:blipFill>
            <a:blip r:embed="rId5">
              <a:lum contrast="10000"/>
            </a:blip>
            <a:stretch/>
          </p:blipFill>
          <p:spPr>
            <a:xfrm>
              <a:off x="500040" y="1071720"/>
              <a:ext cx="385776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00040" y="1071720"/>
              <a:ext cx="385776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429080" y="1071720"/>
            <a:ext cx="4253040" cy="2928960"/>
            <a:chOff x="4429080" y="1071720"/>
            <a:chExt cx="4253040" cy="2928960"/>
          </a:xfrm>
        </p:grpSpPr>
        <p:pic>
          <p:nvPicPr>
            <p:cNvPr id="175" name="" descr=""/>
            <p:cNvPicPr/>
            <p:nvPr/>
          </p:nvPicPr>
          <p:blipFill>
            <a:blip r:embed="rId6"/>
            <a:stretch/>
          </p:blipFill>
          <p:spPr>
            <a:xfrm>
              <a:off x="4429080" y="1071720"/>
              <a:ext cx="425304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429080" y="1071720"/>
              <a:ext cx="4253040" cy="29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05:54:52Z</dcterms:created>
  <dc:creator>Капитонов</dc:creator>
  <dc:description/>
  <dc:language>en-US</dc:language>
  <cp:lastModifiedBy>Maz</cp:lastModifiedBy>
  <dcterms:modified xsi:type="dcterms:W3CDTF">2014-08-06T18:54:40Z</dcterms:modified>
  <cp:revision>231</cp:revision>
  <dc:subject/>
  <dc:title>Слайд 1</dc:title>
</cp:coreProperties>
</file>