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jpeg" ContentType="image/jpeg"/>
  <Override PartName="/ppt/media/image14.gif" ContentType="image/gif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C03-B32D-4869-8527-D68C87A95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53C-98FF-4357-A8AA-ED8F816D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B1E-1A1F-4842-BE8E-D996C190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230-FB92-485D-9E89-FC45BC40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655-0179-489C-A995-3D846CEC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B8E9-6384-49CC-A6C6-6CFFBEFC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47B-A241-4859-BBC6-803ECFFD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2F6-3587-4066-9045-520CAA6D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756-2532-4FDC-9024-E66D1DCB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3689-2BC9-488F-9AC2-12F7869C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12C-E534-49F3-96CF-D682FE73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562-C8DD-4EB6-98E9-02AA2C95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53FD-182C-435E-ADD8-144A3A21D6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58200" cy="7143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 rot="379800">
            <a:off x="1571760" y="35784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Успе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8"/>
          <p:cNvSpPr/>
          <p:nvPr/>
        </p:nvSpPr>
        <p:spPr>
          <a:xfrm flipV="1" rot="8816400">
            <a:off x="5226840" y="92880"/>
            <a:ext cx="26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нтузиа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 rot="20661000">
            <a:off x="7214760" y="393660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0"/>
          <p:cNvSpPr/>
          <p:nvPr/>
        </p:nvSpPr>
        <p:spPr>
          <a:xfrm rot="1371600">
            <a:off x="329040" y="2967120"/>
            <a:ext cx="19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зи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2"/>
          <p:cNvSpPr/>
          <p:nvPr/>
        </p:nvSpPr>
        <p:spPr>
          <a:xfrm rot="1134000">
            <a:off x="581400" y="2100240"/>
            <a:ext cx="22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теп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3"/>
          <p:cNvSpPr/>
          <p:nvPr/>
        </p:nvSpPr>
        <p:spPr>
          <a:xfrm flipH="1" rot="20730000">
            <a:off x="6992280" y="154476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люб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 rot="1233000">
            <a:off x="1719000" y="693360"/>
            <a:ext cx="19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5"/>
          <p:cNvSpPr/>
          <p:nvPr/>
        </p:nvSpPr>
        <p:spPr>
          <a:xfrm rot="19775400">
            <a:off x="6949440" y="982800"/>
            <a:ext cx="14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счаст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6"/>
          <p:cNvSpPr/>
          <p:nvPr/>
        </p:nvSpPr>
        <p:spPr>
          <a:xfrm>
            <a:off x="3571920" y="2142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 rot="20468400">
            <a:off x="7379640" y="2957040"/>
            <a:ext cx="20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радости</a:t>
            </a: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8"/>
          <p:cNvSpPr/>
          <p:nvPr/>
        </p:nvSpPr>
        <p:spPr>
          <a:xfrm rot="20859600">
            <a:off x="7143480" y="22856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 rot="961200">
            <a:off x="1031760" y="1277640"/>
            <a:ext cx="22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дов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rot="1145400">
            <a:off x="12240" y="4056120"/>
            <a:ext cx="28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работоспособности</a:t>
            </a:r>
            <a:r>
              <a:rPr b="0" lang="ru-RU" sz="2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rot="1135200">
            <a:off x="71280" y="3828960"/>
            <a:ext cx="51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богат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2"/>
          <p:cNvSpPr/>
          <p:nvPr/>
        </p:nvSpPr>
        <p:spPr>
          <a:xfrm rot="20010600">
            <a:off x="6101640" y="744120"/>
            <a:ext cx="19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"/>
              </a:rPr>
              <a:t>ув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3"/>
          <p:cNvSpPr/>
          <p:nvPr/>
        </p:nvSpPr>
        <p:spPr>
          <a:xfrm flipH="1" flipV="1" rot="9696000">
            <a:off x="7644240" y="46141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весел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4"/>
          <p:cNvSpPr/>
          <p:nvPr/>
        </p:nvSpPr>
        <p:spPr>
          <a:xfrm flipV="1" rot="11705400">
            <a:off x="-92520" y="4980600"/>
            <a:ext cx="50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реш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5"/>
          <p:cNvSpPr/>
          <p:nvPr/>
        </p:nvSpPr>
        <p:spPr>
          <a:xfrm rot="1237200">
            <a:off x="754560" y="1821960"/>
            <a:ext cx="35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ко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6"/>
          <p:cNvSpPr/>
          <p:nvPr/>
        </p:nvSpPr>
        <p:spPr>
          <a:xfrm>
            <a:off x="3157560" y="1143000"/>
            <a:ext cx="30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целеустремлё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7"/>
          <p:cNvSpPr/>
          <p:nvPr/>
        </p:nvSpPr>
        <p:spPr>
          <a:xfrm flipV="1" rot="9661200">
            <a:off x="6400800" y="5246280"/>
            <a:ext cx="27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справедл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8"/>
          <p:cNvSpPr/>
          <p:nvPr/>
        </p:nvSpPr>
        <p:spPr>
          <a:xfrm rot="786000">
            <a:off x="232920" y="540072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ст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9"/>
          <p:cNvSpPr/>
          <p:nvPr/>
        </p:nvSpPr>
        <p:spPr>
          <a:xfrm rot="726600">
            <a:off x="473040" y="2765520"/>
            <a:ext cx="49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отзывчив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0"/>
          <p:cNvSpPr/>
          <p:nvPr/>
        </p:nvSpPr>
        <p:spPr>
          <a:xfrm rot="20877600">
            <a:off x="7316280" y="2581200"/>
            <a:ext cx="18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искр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1"/>
          <p:cNvSpPr/>
          <p:nvPr/>
        </p:nvSpPr>
        <p:spPr>
          <a:xfrm>
            <a:off x="3500280" y="785880"/>
            <a:ext cx="18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i?id=44903203-36-72&amp;n=21"/>
          <p:cNvPicPr/>
          <p:nvPr/>
        </p:nvPicPr>
        <p:blipFill>
          <a:blip r:embed="rId1"/>
          <a:stretch/>
        </p:blipFill>
        <p:spPr>
          <a:xfrm>
            <a:off x="0" y="-576360"/>
            <a:ext cx="10510920" cy="7434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1332000" y="3141720"/>
            <a:ext cx="4189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714240" y="404640"/>
            <a:ext cx="842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отрудничество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1928880" y="135720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но у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объяснять свои жел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выслушивать друг- дру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держивать свои эмо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а предупреждения конфликто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говорите сразу с взвинченным, возбуждённым челове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жде чем сказать о неприятном человеку, постарайтесь создать доброжелательную атмосферу, отметьте его заслуги и его хорошие д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арайтесь посмотреть на проблему глазами оппонента, постарайтесь «встать на его мест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скрывайте доброго отношения к людям, чаще высказывайте одобрение своим товарищам, не скупитесь на похва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мейте заставить себя молчать, когда вас задевают в мелкой ссоре ,будьте выше мелочных разборок 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woman_giving_thumbs_up_hg_clr"/>
          <p:cNvPicPr/>
          <p:nvPr/>
        </p:nvPicPr>
        <p:blipFill>
          <a:blip r:embed="rId1"/>
          <a:stretch/>
        </p:blipFill>
        <p:spPr>
          <a:xfrm>
            <a:off x="7686720" y="189000"/>
            <a:ext cx="145728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Scale>
                                      <p:cBhvr>
                                        <p:cTn id="1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i?id=92312131-63-72&amp;n=21"/>
          <p:cNvPicPr/>
          <p:nvPr/>
        </p:nvPicPr>
        <p:blipFill>
          <a:blip r:embed="rId1"/>
          <a:stretch/>
        </p:blipFill>
        <p:spPr>
          <a:xfrm>
            <a:off x="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-281160" y="-3682440"/>
            <a:ext cx="9707760" cy="10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oudy Stout"/>
              </a:rPr>
              <a:t>Язык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oudy Stout"/>
              </a:rPr>
              <a:t>лучший посредни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oudy Stout"/>
              </a:rPr>
              <a:t>для установл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oudy Stout"/>
              </a:rPr>
              <a:t>дружбы и соглас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разм Роттердам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Bodoni MT Black"/>
              </a:rPr>
              <a:t>Прежде чем сказать-посчитай до десяти,</a:t>
            </a: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Bodoni MT Black"/>
              </a:rPr>
              <a:t>Прежде чем обидеть-посчитай до ста,</a:t>
            </a: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Bodoni MT Black"/>
              </a:rPr>
              <a:t>Прежде чем ударить- </a:t>
            </a: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Bodoni MT Black"/>
              </a:rPr>
              <a:t>посчитай до тысячи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3600" spc="-1" strike="noStrike">
                <a:solidFill>
                  <a:srgbClr val="00ff00"/>
                </a:solidFill>
                <a:latin typeface="Arial"/>
              </a:rPr>
              <a:t>(Старинная народная мудрост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9" descr="i?id=79524606-27-72&amp;n=21"/>
          <p:cNvPicPr/>
          <p:nvPr/>
        </p:nvPicPr>
        <p:blipFill>
          <a:blip r:embed="rId1"/>
          <a:stretch/>
        </p:blipFill>
        <p:spPr>
          <a:xfrm>
            <a:off x="7524720" y="4708440"/>
            <a:ext cx="1619280" cy="2149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i?id=16874360-01-72&amp;n=2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4"/>
          <p:cNvSpPr/>
          <p:nvPr/>
        </p:nvSpPr>
        <p:spPr>
          <a:xfrm>
            <a:off x="179280" y="0"/>
            <a:ext cx="8964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жде чем сказать-посчитай до десяти,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жде чем обидеть-посчитай до ста,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жде чем ударить-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считай до тысячи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(Старинная народная мудрост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1f497d"/>
                </a:solidFill>
                <a:latin typeface="Calibri"/>
              </a:rPr>
              <a:t>Стратегии поведения в конфликте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ff"/>
              </a:solidFill>
              <a:latin typeface="Calibri"/>
            </a:endParaRPr>
          </a:p>
        </p:txBody>
      </p:sp>
      <p:pic>
        <p:nvPicPr>
          <p:cNvPr id="74" name="Picture 2" descr="C:\Documents and Settings\Учитель\Рабочий стол\доклад\13.jpg"/>
          <p:cNvPicPr/>
          <p:nvPr/>
        </p:nvPicPr>
        <p:blipFill>
          <a:blip r:embed="rId1"/>
          <a:stretch/>
        </p:blipFill>
        <p:spPr>
          <a:xfrm>
            <a:off x="0" y="3789360"/>
            <a:ext cx="2835360" cy="2835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i?id=177395400-00-72&amp;n=21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1000080"/>
            <a:ext cx="850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Стратегии поведения в конфликт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i?id=44903203-36-72&amp;n=21"/>
          <p:cNvPicPr/>
          <p:nvPr/>
        </p:nvPicPr>
        <p:blipFill>
          <a:blip r:embed="rId1"/>
          <a:stretch/>
        </p:blipFill>
        <p:spPr>
          <a:xfrm>
            <a:off x="0" y="-576360"/>
            <a:ext cx="10510920" cy="7434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1332000" y="3141720"/>
            <a:ext cx="4189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онкуренция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 flipV="1" rot="10785000">
            <a:off x="4781160" y="5657040"/>
            <a:ext cx="3967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збега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 flipV="1" rot="10800000">
            <a:off x="1185480" y="1339560"/>
            <a:ext cx="518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испособ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5076720" y="2349360"/>
            <a:ext cx="40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омпроми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4284720" y="404640"/>
            <a:ext cx="485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отрудничество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Конкуренц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14240" y="1785600"/>
            <a:ext cx="79725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Чтобы я победил, ты                   должен проигра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использовать человек, обладающий сильной волей, достаточным авторитетом, властью, не очень заинтересованный в сотрудничестве с другой стороны и стремящийся в первую очередь удовлетворить собственные интерес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8" descr="&amp;Mcy;&amp;iecy;&amp;zhcy;&amp;lcy;&amp;icy;&amp;chcy;&amp;ncy;&amp;ocy;&amp;scy;&amp;tcy;&amp;ncy;&amp;ycy;&amp;jcy; &amp;kcy;&amp;ocy;&amp;ncy;&amp;fcy;&amp;lcy;&amp;icy;&amp;kcy;&amp;tcy;"/>
          <p:cNvPicPr/>
          <p:nvPr/>
        </p:nvPicPr>
        <p:blipFill>
          <a:blip r:embed="rId1"/>
          <a:stretch/>
        </p:blipFill>
        <p:spPr>
          <a:xfrm>
            <a:off x="0" y="0"/>
            <a:ext cx="1967040" cy="2428920"/>
          </a:xfrm>
          <a:prstGeom prst="rect">
            <a:avLst/>
          </a:prstGeom>
          <a:ln w="0">
            <a:noFill/>
          </a:ln>
        </p:spPr>
      </p:pic>
      <p:pic>
        <p:nvPicPr>
          <p:cNvPr id="88" name="VN550452.WMA" descr=""/>
          <p:cNvPicPr/>
          <p:nvPr/>
        </p:nvPicPr>
        <p:blipFill>
          <a:blip r:embed="rId2"/>
          <a:stretch/>
        </p:blipFill>
        <p:spPr>
          <a:xfrm>
            <a:off x="42148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848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Избегани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 бы ни было, я ухожу</a:t>
            </a: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»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тратегия рекомендуется в тех случаях, когда одна из сторон обладает большей властью или чувствует, что неправа, или считает, что нет серьезных оснований для продолжения контактов</a:t>
            </a:r>
            <a:br>
              <a:rPr sz="3600"/>
            </a:br>
            <a:br>
              <a:rPr sz="6000"/>
            </a:b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i?id=37068140-17-72&amp;n=21"/>
          <p:cNvPicPr/>
          <p:nvPr/>
        </p:nvPicPr>
        <p:blipFill>
          <a:blip r:embed="rId1"/>
          <a:stretch/>
        </p:blipFill>
        <p:spPr>
          <a:xfrm>
            <a:off x="6929280" y="5072040"/>
            <a:ext cx="221472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VN550454.WMA" descr=""/>
          <p:cNvPicPr/>
          <p:nvPr/>
        </p:nvPicPr>
        <p:blipFill>
          <a:blip r:embed="rId2"/>
          <a:stretch/>
        </p:blipFill>
        <p:spPr>
          <a:xfrm>
            <a:off x="464328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6857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Calibri"/>
              </a:rPr>
              <a:t>Приспособле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Чтобы ты выиграл,я должен проиграт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8" descr="&amp;Ucy;&amp;rcy;&amp;iecy;&amp;gcy;&amp;ucy;&amp;lcy;&amp;icy;&amp;rcy;&amp;ocy;&amp;vcy;&amp;acy;&amp;ncy;&amp;icy;&amp;iecy; &amp;kcy;&amp;ocy;&amp;ncy;&amp;fcy;&amp;lcy;&amp;icy;&amp;kcy;&amp;tcy;&amp;acy;"/>
          <p:cNvPicPr/>
          <p:nvPr/>
        </p:nvPicPr>
        <p:blipFill>
          <a:blip r:embed="rId1"/>
          <a:stretch/>
        </p:blipFill>
        <p:spPr>
          <a:xfrm>
            <a:off x="5170320" y="3714840"/>
            <a:ext cx="3973680" cy="2968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179280" y="2253600"/>
            <a:ext cx="4892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эффективна, когда исход дела чрезвычайно важен для другой стороны и не очень существен для ва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VN550455.WMA" descr=""/>
          <p:cNvPicPr/>
          <p:nvPr/>
        </p:nvPicPr>
        <p:blipFill>
          <a:blip r:embed="rId2"/>
          <a:stretch/>
        </p:blipFill>
        <p:spPr>
          <a:xfrm>
            <a:off x="807228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249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Компромис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3840" y="1600200"/>
            <a:ext cx="86439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тобы каждый из нас что-то выиграл, каждый из нас должен что-то проигра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шение представителей разных точек зрений и интересов на основе взаимных уступок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е стороны хотят одного и того же, но знают, что одновременно это невыполнимо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8" descr="i?id=144068208-21-72&amp;n=21"/>
          <p:cNvPicPr/>
          <p:nvPr/>
        </p:nvPicPr>
        <p:blipFill>
          <a:blip r:embed="rId1"/>
          <a:stretch/>
        </p:blipFill>
        <p:spPr>
          <a:xfrm>
            <a:off x="6929280" y="5857920"/>
            <a:ext cx="2214720" cy="1000080"/>
          </a:xfrm>
          <a:prstGeom prst="rect">
            <a:avLst/>
          </a:prstGeom>
          <a:ln w="0">
            <a:noFill/>
          </a:ln>
        </p:spPr>
      </p:pic>
      <p:pic>
        <p:nvPicPr>
          <p:cNvPr id="101" name="VN550456.WMA" descr=""/>
          <p:cNvPicPr/>
          <p:nvPr/>
        </p:nvPicPr>
        <p:blipFill>
          <a:blip r:embed="rId2"/>
          <a:stretch/>
        </p:blipFill>
        <p:spPr>
          <a:xfrm>
            <a:off x="7786800" y="6429240"/>
            <a:ext cx="3045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21037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отрудничеств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Чтобы выиграл я, ты тоже должен выиграт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её применения - разработка долгосрочного взаимовыгодного решения. Такая стратегия требует умения объяснять свои желания, выслушивать друг друга, сдерживать свои эмоции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business_women_shaking_hands_hg_clr"/>
          <p:cNvPicPr/>
          <p:nvPr/>
        </p:nvPicPr>
        <p:blipFill>
          <a:blip r:embed="rId1"/>
          <a:stretch/>
        </p:blipFill>
        <p:spPr>
          <a:xfrm>
            <a:off x="7858080" y="0"/>
            <a:ext cx="1428840" cy="3027240"/>
          </a:xfrm>
          <a:prstGeom prst="rect">
            <a:avLst/>
          </a:prstGeom>
          <a:ln w="0">
            <a:noFill/>
          </a:ln>
        </p:spPr>
      </p:pic>
      <p:pic>
        <p:nvPicPr>
          <p:cNvPr id="105" name="VN550457.WMA" descr=""/>
          <p:cNvPicPr/>
          <p:nvPr/>
        </p:nvPicPr>
        <p:blipFill>
          <a:blip r:embed="rId2"/>
          <a:stretch/>
        </p:blipFill>
        <p:spPr>
          <a:xfrm>
            <a:off x="8715240" y="6429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713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EEDxp</cp:lastModifiedBy>
  <dcterms:modified xsi:type="dcterms:W3CDTF">2014-03-10T13:43:43Z</dcterms:modified>
  <cp:revision>80</cp:revision>
  <dc:subject/>
  <dc:title>Слайд 1</dc:title>
</cp:coreProperties>
</file>