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29.png" ContentType="image/png"/>
  <Override PartName="/ppt/media/image2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9CC-57D4-42B8-B96C-EB840119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7C4-D1BA-4EE1-94E0-AF16DA28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B4C-3003-480B-9228-28853DC8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D73-B9CA-498B-ABE6-EC972AC8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C767-388F-46FE-BCE6-2BAE0DF4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EB70-C536-4A0D-B082-31E0D407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5116-43F0-45DC-AC38-BA2207E8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67CF-4CA3-454C-8D82-BCF5BCB1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FC4F-A411-401C-97D8-79E65F6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A09-05A2-4DC1-B89B-A5273FAE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B125-8D12-4C69-8737-609B68C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944-5932-4509-BE13-91A484E9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D83C-07AF-4F7A-A065-05E03AB6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1114-1733-4C4E-87DE-AADEB078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7C64-021F-46CD-A8D9-06B61E34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0380-D919-42EF-8DD3-FA31310E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7A27-C529-43A1-8376-4855412D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74E7C8-199E-4347-B9A7-81E6A6C4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850B7-95ED-4B06-9420-8A5BCB5C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B9F72-4A5D-4704-A2E0-9BCA2B9D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3FB84-280F-40C5-BC07-78DE6CF3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36350-BBA3-4E93-9799-217AB41C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EEB-44C6-4DB5-9DD0-2705E1C6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A2EB5-88F0-4C03-A547-07682838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FC9EB-21BD-46D4-86C4-C7B8C579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1B360-F87C-46FA-88D7-79D71FB0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4EAC4-6B1E-49CC-A821-2618710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1E06B-7363-48B5-A550-DE8B8F35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3A0AC-FDCA-413A-8351-C024859B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37A18-D258-4D48-AF94-B3326A55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C8C0-666E-46CC-AB6E-91AD99D4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D079-704E-476D-BCF6-DB8A5F69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65FB-182E-4C34-AB83-08D83C85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381-420F-4E88-A2B1-EA80E760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4F3EC-51E6-4B8F-9482-B869D9DE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9218-ECDD-4688-AFA7-A6BAFA6E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4956-2798-405B-A3EE-56A75B94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CAA6-DCE9-4765-88CD-2882E2C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456E0-BEE3-46F0-9C0C-DA72DDF5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D9DB-A382-4955-A3DB-A6BDA9A3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66353-170C-4975-8B77-29F20CA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93541-3B7D-4CA8-936C-790228F3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0622-433A-4954-90E9-7C057064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42ED7-7732-4536-AEE7-3A241744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B50-F8E4-4B78-888A-91921CF5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D25A8-004A-42FC-9E1C-348F008B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B61C9-AA74-4E0D-9864-3AA2E9EE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B71BD-D895-4728-9590-21CC52BA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016EE-E7F4-468F-8DC4-8876D168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FECAD-983C-40EF-84E0-A3AB013A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87F30-1F00-43BA-B36E-FC71600E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43238-B120-4F6C-963E-7901CF8C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24A59-57ED-4386-906A-50EF37F9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75056-CB8F-4770-A493-194B85A2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D016B-3CD7-4FE2-B6E9-36140331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B6C-E122-43E2-BF92-AA5131F7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75734-C49D-46B3-B467-58FDC12C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3CB8C-C03A-4213-A0DF-6DB5B647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EEFEFE-AD20-40D2-9785-77B1315A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D1CC1-945C-4422-B5BD-676F5F28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BB0C8-0E36-43E6-84B1-5FA28A8D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F73CF-6A60-4BAC-B6DD-4565D48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F29CC-CA7F-4CFD-9562-AB436C17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74714-0F1D-4A7F-9D47-7770E47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FE729-511A-450E-AAB6-1988877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69DBB4-6118-4E14-ADF5-F0A8927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88D-9E25-4993-A073-9A7A317D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4D287-1F1F-495E-8E4B-8BDC5F2A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1A64A-A672-4DF4-B266-DDCE5FA7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69D1E-5AD4-4B1E-80A2-9797B03B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BABCB-C9BE-4E0B-AA74-4A24BFC0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C32B3A-B00E-4DA9-B1EF-719095C7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66D26-6E33-4872-B886-DE7A5D4C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F2FD2-99D8-4D94-B871-EB31A525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D2067-6543-4F26-9439-11BFD363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02C50-1AD1-4F7A-A523-A06A47C7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8FB40-A7DC-4EEA-BBD7-DC64628A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F03-FAEB-44B6-92E3-F7581C4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1F00D-340A-4F8A-8D00-45D63F6B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A9EA3-38EB-42AB-B382-E15F636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734E7-2D8F-469F-BD48-70EB8B3F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4F0D66-9B29-4F52-8C44-FDAFD257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81A9F1-4915-4DBD-ABE2-055953C1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06C-7D5B-4AD7-87E8-FB556CB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7F45-593F-4851-8F54-446A437CDC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CBCA-6019-42E5-A6BE-6F7FC5B9AF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9213-1853-4979-8D69-8B4FA4A8E1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6E5A-DF27-4793-836B-24228EEB40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7686-8C3F-421A-94EE-B83F255AB7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E640-68EA-4A26-AC44-94B793ABA65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7B2E-3D9E-48A2-8754-7365C86A83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грипп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354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8" descr="5.jpg"/>
          <p:cNvPicPr/>
          <p:nvPr/>
        </p:nvPicPr>
        <p:blipFill>
          <a:blip r:embed="rId3"/>
          <a:stretch/>
        </p:blipFill>
        <p:spPr>
          <a:xfrm>
            <a:off x="6934320" y="3200400"/>
            <a:ext cx="15843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"/>
          <p:cNvSpPr/>
          <p:nvPr/>
        </p:nvSpPr>
        <p:spPr>
          <a:xfrm>
            <a:off x="457200" y="762120"/>
            <a:ext cx="3657600" cy="2361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публике Татарстан в сезон 2015-2016 гг. привито  1039640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право с вырезом 4"/>
          <p:cNvSpPr/>
          <p:nvPr/>
        </p:nvSpPr>
        <p:spPr>
          <a:xfrm>
            <a:off x="4191120" y="137160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"/>
          <p:cNvSpPr/>
          <p:nvPr/>
        </p:nvSpPr>
        <p:spPr>
          <a:xfrm>
            <a:off x="5715000" y="685800"/>
            <a:ext cx="3124080" cy="25909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- 27,3% от численност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5638680" y="3657600"/>
            <a:ext cx="3200400" cy="2209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– 31,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право с вырезом 7"/>
          <p:cNvSpPr/>
          <p:nvPr/>
        </p:nvSpPr>
        <p:spPr>
          <a:xfrm>
            <a:off x="4114800" y="449568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457200" y="3809880"/>
            <a:ext cx="3429000" cy="2286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 в сезон 2015-2016 гг. привито  44,9 млн.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ИЗНАКИ ГРИППА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зкое повышение температуры тела (выше 38°С) без каких- либо сопутствующих симптом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ловная бо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мыщц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горле, каш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морк, заложенность но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вота и диаре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\\fs\Отделы\ЭПИДНАДЗОР\Василенко-ЯО\ГРИПП\МЕРОПРИЯТИЯ_ГРИПП\разьяснит работа-НАСЕЛЕНИЕ сезон 16-17 гг\В ТО письмо-4.08.16 г\migren-i-temperatura.jpg"/>
          <p:cNvPicPr/>
          <p:nvPr/>
        </p:nvPicPr>
        <p:blipFill>
          <a:blip r:embed="rId1"/>
          <a:stretch/>
        </p:blipFill>
        <p:spPr>
          <a:xfrm>
            <a:off x="4648320" y="1066680"/>
            <a:ext cx="1904760" cy="1168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\\fs\Отделы\ЭПИДНАДЗОР\Василенко-ЯО\ГРИПП\МЕРОПРИЯТИЯ_ГРИПП\разьяснит работа-НАСЕЛЕНИЕ сезон 16-17 гг\В ТО письмо-4.08.16 г\goglovnaya_bol.jpg"/>
          <p:cNvPicPr/>
          <p:nvPr/>
        </p:nvPicPr>
        <p:blipFill>
          <a:blip r:embed="rId2"/>
          <a:stretch/>
        </p:blipFill>
        <p:spPr>
          <a:xfrm>
            <a:off x="6858000" y="106668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\\fs\Отделы\ЭПИДНАДЗОР\Василенко-ЯО\ГРИПП\МЕРОПРИЯТИЯ_ГРИПП\разьяснит работа-НАСЕЛЕНИЕ сезон 16-17 гг\В ТО письмо-4.08.16 г\oznob-i-potlivost-bez-temperatury.jpg"/>
          <p:cNvPicPr/>
          <p:nvPr/>
        </p:nvPicPr>
        <p:blipFill>
          <a:blip r:embed="rId3"/>
          <a:stretch/>
        </p:blipFill>
        <p:spPr>
          <a:xfrm>
            <a:off x="6477120" y="2286000"/>
            <a:ext cx="1981080" cy="1185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\\fs\Отделы\ЭПИДНАДЗОР\Василенко-ЯО\ГРИПП\МЕРОПРИЯТИЯ_ГРИПП\разьяснит работа-НАСЕЛЕНИЕ сезон 16-17 гг\В ТО письмо-4.08.16 г\1_142.jpg"/>
          <p:cNvPicPr/>
          <p:nvPr/>
        </p:nvPicPr>
        <p:blipFill>
          <a:blip r:embed="rId4"/>
          <a:stretch/>
        </p:blipFill>
        <p:spPr>
          <a:xfrm>
            <a:off x="5943600" y="3581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\\fs\Отделы\ЭПИДНАДЗОР\Василенко-ЯО\ГРИПП\МЕРОПРИЯТИЯ_ГРИПП\разьяснит работа-НАСЕЛЕНИЕ сезон 16-17 гг\В ТО письмо-4.08.16 г\55000.jpg"/>
          <p:cNvPicPr/>
          <p:nvPr/>
        </p:nvPicPr>
        <p:blipFill>
          <a:blip r:embed="rId5"/>
          <a:stretch/>
        </p:blipFill>
        <p:spPr>
          <a:xfrm>
            <a:off x="4572000" y="2514600"/>
            <a:ext cx="1698480" cy="1924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\\fs\Отделы\ЭПИДНАДЗОР\Василенко-ЯО\ГРИПП\МЕРОПРИЯТИЯ_ГРИПП\разьяснит работа-НАСЕЛЕНИЕ сезон 16-17 гг\В ТО письмо-4.08.16 г\kak-lechit-otravlenie-u-detej-rvota-i-temperatura-11.jpg"/>
          <p:cNvPicPr/>
          <p:nvPr/>
        </p:nvPicPr>
        <p:blipFill>
          <a:blip r:embed="rId6"/>
          <a:stretch/>
        </p:blipFill>
        <p:spPr>
          <a:xfrm>
            <a:off x="4419720" y="4724280"/>
            <a:ext cx="1523880" cy="1764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1"/>
          <p:cNvSpPr/>
          <p:nvPr/>
        </p:nvSpPr>
        <p:spPr>
          <a:xfrm>
            <a:off x="685800" y="61722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ЗАРАЗИТЬСЯ ВИРУСОМ ГРИППА И ГД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больным человеко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человеком с признаками гриппа на расстоянии до 2 м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огут заразиться в детском саду и школе, взрослые в общественных местах (театры, торговые центры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9" descr="http://www.factroom.ru/facts/wp-content/uploads/2014/04/454-620x413.jpg"/>
          <p:cNvPicPr/>
          <p:nvPr/>
        </p:nvPicPr>
        <p:blipFill>
          <a:blip r:embed="rId1"/>
          <a:stretch/>
        </p:blipFill>
        <p:spPr>
          <a:xfrm>
            <a:off x="762120" y="4419720"/>
            <a:ext cx="3276360" cy="2182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http://s25.uo15.ru/wp-content/uploads/2015/09/%D0%93%D0%98%D0%91%D0%94%D0%94_2015_2.jpg"/>
          <p:cNvPicPr/>
          <p:nvPr/>
        </p:nvPicPr>
        <p:blipFill>
          <a:blip r:embed="rId2"/>
          <a:stretch/>
        </p:blipFill>
        <p:spPr>
          <a:xfrm>
            <a:off x="5181480" y="2438280"/>
            <a:ext cx="3522960" cy="1981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http://las-vegas.su/wp-content/uploads/2015/06/detskie-parovoziki.png"/>
          <p:cNvPicPr/>
          <p:nvPr/>
        </p:nvPicPr>
        <p:blipFill>
          <a:blip r:embed="rId3"/>
          <a:stretch/>
        </p:blipFill>
        <p:spPr>
          <a:xfrm>
            <a:off x="5029200" y="4724280"/>
            <a:ext cx="364500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\\fs\Отделы\ЭПИДНАДЗОР\Василенко-ЯО\ГРИПП\МЕРОПРИЯТИЯ_ГРИПП\разьяснит работа-НАСЕЛЕНИЕ сезон 16-17 гг\В ТО письмо-4.08.16 г\198340.jpg"/>
          <p:cNvPicPr/>
          <p:nvPr/>
        </p:nvPicPr>
        <p:blipFill>
          <a:blip r:embed="rId4"/>
          <a:stretch/>
        </p:blipFill>
        <p:spPr>
          <a:xfrm>
            <a:off x="685800" y="2286000"/>
            <a:ext cx="3581280" cy="20430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9"/>
          <p:cNvSpPr/>
          <p:nvPr/>
        </p:nvSpPr>
        <p:spPr>
          <a:xfrm>
            <a:off x="41148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БЕРЕЧЬСЯ ОТ ЗАРАЖЕНИЯ ГРИППОМ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457200"/>
            <a:ext cx="3657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елать прививку против грипп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сещения мест большого скопления люде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крывать нос и рот при чихании или кашле одноразовой салфетк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встрече с человеком с признаками гриппа, держитесь от него на расстоянии &gt; 2 м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о проветривать помещ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жная уборка помещени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ноценно питаться, высыпаться, избегать переутомл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рикасаться к глазам, носу или рту немытыми руками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держиваться правил личной гигиены, часто мыть руки с мыл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\\fs\Отделы\ЭПИДНАДЗОР\Василенко-ЯО\ГРИПП\МЕРОПРИЯТИЯ_ГРИПП\разьяснит работа-НАСЕЛЕНИЕ сезон 16-17 гг\В ТО письмо-4.08.16 г\depositphotos_11078500-in-the-crowd.jpg"/>
          <p:cNvPicPr/>
          <p:nvPr/>
        </p:nvPicPr>
        <p:blipFill>
          <a:blip r:embed="rId1"/>
          <a:stretch/>
        </p:blipFill>
        <p:spPr>
          <a:xfrm>
            <a:off x="6477120" y="533520"/>
            <a:ext cx="2212920" cy="1676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\\fs\Отделы\ЭПИДНАДЗОР\Василенко-ЯО\ГРИПП\МЕРОПРИЯТИЯ_ГРИПП\разьяснит работа-НАСЕЛЕНИЕ сезон 16-17 гг\В ТО письмо-4.08.16 г\i.jpg"/>
          <p:cNvPicPr/>
          <p:nvPr/>
        </p:nvPicPr>
        <p:blipFill>
          <a:blip r:embed="rId2"/>
          <a:stretch/>
        </p:blipFill>
        <p:spPr>
          <a:xfrm>
            <a:off x="4419720" y="609480"/>
            <a:ext cx="1523880" cy="1503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\\fs\Отделы\ЭПИДНАДЗОР\Василенко-ЯО\ГРИПП\МЕРОПРИЯТИЯ_ГРИПП\разьяснит работа-НАСЕЛЕНИЕ сезон 16-17 гг\В ТО письмо-4.08.16 г\kak-predupredit-gripp_11_1.jpeg"/>
          <p:cNvPicPr/>
          <p:nvPr/>
        </p:nvPicPr>
        <p:blipFill>
          <a:blip r:embed="rId3"/>
          <a:stretch/>
        </p:blipFill>
        <p:spPr>
          <a:xfrm>
            <a:off x="6248520" y="2286000"/>
            <a:ext cx="2058840" cy="1544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\\fs\Отделы\ЭПИДНАДЗОР\Василенко-ЯО\ГРИПП\МЕРОПРИЯТИЯ_ГРИПП\разьяснит работа-НАСЕЛЕНИЕ сезон 16-17 гг\В ТО письмо-4.08.16 г\Plastikovie_okna_pravilniy.jpg"/>
          <p:cNvPicPr/>
          <p:nvPr/>
        </p:nvPicPr>
        <p:blipFill>
          <a:blip r:embed="rId4"/>
          <a:stretch/>
        </p:blipFill>
        <p:spPr>
          <a:xfrm>
            <a:off x="6400800" y="3809880"/>
            <a:ext cx="2057400" cy="1322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\\fs\Отделы\ЭПИДНАДЗОР\Василенко-ЯО\ГРИПП\МЕРОПРИЯТИЯ_ГРИПП\разьяснит работа-НАСЕЛЕНИЕ сезон 16-17 гг\В ТО письмо-4.08.16 г\wash_hands1.jpg"/>
          <p:cNvPicPr/>
          <p:nvPr/>
        </p:nvPicPr>
        <p:blipFill>
          <a:blip r:embed="rId5"/>
          <a:stretch/>
        </p:blipFill>
        <p:spPr>
          <a:xfrm>
            <a:off x="3962520" y="21337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\\fs\Отделы\ЭПИДНАДЗОР\Василенко-ЯО\ГРИПП\МЕРОПРИЯТИЯ_ГРИПП\разьяснит работа-НАСЕЛЕНИЕ сезон 16-17 гг\В ТО письмо-4.08.16 г\i (1).jpg"/>
          <p:cNvPicPr/>
          <p:nvPr/>
        </p:nvPicPr>
        <p:blipFill>
          <a:blip r:embed="rId6"/>
          <a:stretch/>
        </p:blipFill>
        <p:spPr>
          <a:xfrm>
            <a:off x="4495680" y="3886200"/>
            <a:ext cx="2133720" cy="240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уборка"/>
          <p:cNvPicPr/>
          <p:nvPr/>
        </p:nvPicPr>
        <p:blipFill>
          <a:blip r:embed="rId7"/>
          <a:stretch/>
        </p:blipFill>
        <p:spPr>
          <a:xfrm>
            <a:off x="6629400" y="5105520"/>
            <a:ext cx="1628640" cy="144756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4"/>
          <p:cNvSpPr/>
          <p:nvPr/>
        </p:nvSpPr>
        <p:spPr>
          <a:xfrm>
            <a:off x="838080" y="6172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Я ОТ ГРИПП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кцинироваться от гриппа нужно в осенний период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ивка не ослабляет, а наоборот, усиливает способность организма противостоять грипп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кцинация проводится после осмотра врач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\\fs\Отделы\ЭПИДНАДЗОР\Василенко-ЯО\ГРИПП\МЕРОПРИЯТИЯ_ГРИПП\разьяснит работа-НАСЕЛЕНИЕ сезон 16-17 гг\В ТО письмо-4.08.16 г\2477752_шприц-вектора-стороны-эскиз-cartoon-медицинской.jpg"/>
          <p:cNvPicPr/>
          <p:nvPr/>
        </p:nvPicPr>
        <p:blipFill>
          <a:blip r:embed="rId1"/>
          <a:stretch/>
        </p:blipFill>
        <p:spPr>
          <a:xfrm>
            <a:off x="3352680" y="41148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8"/>
          <p:cNvSpPr/>
          <p:nvPr/>
        </p:nvSpPr>
        <p:spPr>
          <a:xfrm>
            <a:off x="304920" y="617220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ГРИПП ОПАСНЫЙ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 5 лет (особенно дети до 2 ле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ахарным диабет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 хроническими заболеваниями легки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ременные женщин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лишним вес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льные с хроническими сердечно-сосудистыми заболевания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другими хроническими заболеван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тарше 60 л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1066680" y="6095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ГРУППЫ РИСК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цинские работн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ля и воспитател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авц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ители, кондукт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ники общественных мес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\\fs\Отделы\ЭПИДНАДЗОР\Василенко-ЯО\ГРИПП\МЕРОПРИЯТИЯ_ГРИПП\разьяснит работа-НАСЕЛЕНИЕ сезон 16-17 гг\В ТО письмо-4.08.16 г\6960575.png"/>
          <p:cNvPicPr/>
          <p:nvPr/>
        </p:nvPicPr>
        <p:blipFill>
          <a:blip r:embed="rId1"/>
          <a:stretch/>
        </p:blipFill>
        <p:spPr>
          <a:xfrm>
            <a:off x="4343400" y="1981080"/>
            <a:ext cx="1828800" cy="1241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6" descr="\\fs\Отделы\ЭПИДНАДЗОР\Василенко-ЯО\ГРИПП\МЕРОПРИЯТИЯ_ГРИПП\разьяснит работа-НАСЕЛЕНИЕ сезон 16-17 гг\В ТО письмо-4.08.16 г\depositphotos_47242093-Delivery-truck-driver-waving-cartoon.jpg"/>
          <p:cNvPicPr/>
          <p:nvPr/>
        </p:nvPicPr>
        <p:blipFill>
          <a:blip r:embed="rId2"/>
          <a:stretch/>
        </p:blipFill>
        <p:spPr>
          <a:xfrm>
            <a:off x="4564080" y="3421080"/>
            <a:ext cx="15840" cy="14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8" descr="\\fs\Отделы\ЭПИДНАДЗОР\Василенко-ЯО\ГРИПП\МЕРОПРИЯТИЯ_ГРИПП\разьяснит работа-НАСЕЛЕНИЕ сезон 16-17 гг\В ТО письмо-4.08.16 г\11529427-Cartoon-car-with-a-man-driver-and-passenger-a-woman-Vector-Stock-Vector.jpg"/>
          <p:cNvPicPr/>
          <p:nvPr/>
        </p:nvPicPr>
        <p:blipFill>
          <a:blip r:embed="rId3"/>
          <a:stretch/>
        </p:blipFill>
        <p:spPr>
          <a:xfrm>
            <a:off x="6477120" y="3809880"/>
            <a:ext cx="1676160" cy="1374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9" descr="\\fs\Отделы\ЭПИДНАДЗОР\Василенко-ЯО\ГРИПП\МЕРОПРИЯТИЯ_ГРИПП\разьяснит работа-НАСЕЛЕНИЕ сезон 16-17 гг\В ТО письмо-4.08.16 г\train-conductor.jpg"/>
          <p:cNvPicPr/>
          <p:nvPr/>
        </p:nvPicPr>
        <p:blipFill>
          <a:blip r:embed="rId4"/>
          <a:stretch/>
        </p:blipFill>
        <p:spPr>
          <a:xfrm>
            <a:off x="4267080" y="4267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0" descr="\\fs\Отделы\ЭПИДНАДЗОР\Василенко-ЯО\ГРИПП\МЕРОПРИЯТИЯ_ГРИПП\разьяснит работа-НАСЕЛЕНИЕ сезон 16-17 гг\В ТО письмо-4.08.16 г\ne_zabytoe_staroe.jpg"/>
          <p:cNvPicPr/>
          <p:nvPr/>
        </p:nvPicPr>
        <p:blipFill>
          <a:blip r:embed="rId5"/>
          <a:stretch/>
        </p:blipFill>
        <p:spPr>
          <a:xfrm>
            <a:off x="5943600" y="5334120"/>
            <a:ext cx="1828800" cy="1217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\\fs\Отделы\ЭПИДНАДЗОР\Василенко-ЯО\ГРИПП\МЕРОПРИЯТИЯ_ГРИПП\разьяснит работа-НАСЕЛЕНИЕ сезон 16-17 гг\В ТО письмо-4.08.16 г\рррррррррррр.jpg"/>
          <p:cNvPicPr/>
          <p:nvPr/>
        </p:nvPicPr>
        <p:blipFill>
          <a:blip r:embed="rId6"/>
          <a:stretch/>
        </p:blipFill>
        <p:spPr>
          <a:xfrm>
            <a:off x="1600200" y="342900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3" descr="\\fs\Отделы\ЭПИДНАДЗОР\Василенко-ЯО\ГРИПП\МЕРОПРИЯТИЯ_ГРИПП\разьяснит работа-НАСЕЛЕНИЕ сезон 16-17 гг\В ТО письмо-4.08.16 г\sm.jpg"/>
          <p:cNvPicPr/>
          <p:nvPr/>
        </p:nvPicPr>
        <p:blipFill>
          <a:blip r:embed="rId7"/>
          <a:stretch/>
        </p:blipFill>
        <p:spPr>
          <a:xfrm>
            <a:off x="1219320" y="1066680"/>
            <a:ext cx="1218960" cy="156852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5"/>
          <p:cNvSpPr/>
          <p:nvPr/>
        </p:nvSpPr>
        <p:spPr>
          <a:xfrm>
            <a:off x="1066680" y="6095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7"/>
          <p:cNvSpPr/>
          <p:nvPr/>
        </p:nvSpPr>
        <p:spPr>
          <a:xfrm>
            <a:off x="684360" y="4797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делай прививку сейчас, чтобы не болеть пот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1</cp:lastModifiedBy>
  <dcterms:modified xsi:type="dcterms:W3CDTF">2016-09-13T04:55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