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70199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85440"/>
            <a:ext cx="4464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C67C-E302-4857-84EC-D7628372B1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97000" y="685800"/>
            <a:ext cx="4464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4CBB-3484-4B35-9ED3-167C175B11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97000" y="685800"/>
            <a:ext cx="4464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6A20-3814-4F41-B708-EB5C03891A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274F-3351-4712-B63D-F4FE6048E13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56A3-96A6-41D9-AA0C-8BD5E62A9E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97000" y="685800"/>
            <a:ext cx="4464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1BC5-0355-4567-846E-84C6BBEC85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CBAF-DA18-49B3-8A29-DBF2CEA0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F109-77C9-4882-8C79-93563D46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E69-9B36-4A6B-8B77-A785A4EE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3836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3836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034-5DFA-404F-927A-051AAFC4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836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10F-B770-4551-A3BA-8B84D2B5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520E-E004-4520-8F37-C0AD06ED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3836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1DD-310D-462B-8848-E616AB7A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81B8-077A-40D3-8DA0-89697D7C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1160"/>
            <a:ext cx="8229600" cy="54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F49-BFAD-4C7B-88A5-5487BBD1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3836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243-9D79-4BFD-A0E4-BA2342AC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A384-CE97-4D68-B5DA-6F3AD985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7BFD-1E16-44A4-AD0D-DBC49518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836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93960"/>
            <a:ext cx="2133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93960"/>
            <a:ext cx="28958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93960"/>
            <a:ext cx="2133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FE88-C51F-4323-BBAC-73D2BE5C30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kalininskayscho.ucoz.ru/foto/Internet.png"/>
          <p:cNvPicPr/>
          <p:nvPr/>
        </p:nvPicPr>
        <p:blipFill>
          <a:blip r:embed="rId1"/>
          <a:stretch/>
        </p:blipFill>
        <p:spPr>
          <a:xfrm>
            <a:off x="1547640" y="2575080"/>
            <a:ext cx="4692960" cy="4032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908000" y="198360"/>
            <a:ext cx="583272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зопасность</a:t>
            </a:r>
            <a:endParaRPr b="1" i="1" lang="en-US" sz="40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тей в сети </a:t>
            </a:r>
            <a:endParaRPr b="1" i="1" lang="en-US" sz="40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тернет (кибербуллинг)</a:t>
            </a:r>
            <a:endParaRPr b="1" i="1" lang="en-US" sz="40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5"/>
          <p:cNvSpPr txBox="1"/>
          <p:nvPr/>
        </p:nvSpPr>
        <p:spPr>
          <a:xfrm>
            <a:off x="611280" y="270000"/>
            <a:ext cx="81151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тистические данные о 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пространенности явления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ибербуллинг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1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5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"/>
          <p:cNvSpPr/>
          <p:nvPr/>
        </p:nvSpPr>
        <p:spPr>
          <a:xfrm>
            <a:off x="426960" y="1854360"/>
            <a:ext cx="830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в области кибербуллинга, проведенное Pew Research Center в 2014 году, показало, что 40% пользователей глобальной сети хотя бы раз в жизни сталкивались с буллингом в Интернете на собственном опы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73% опрошенных пользователей сталкивались с онлайн-буллингом вообще (становились жертвами сами или были свидетелями буллинг в отношении других люд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реднем каждый шестой подросток хотя бы раз в жизни занимался нападками, оскорблениями, унижениями или насмешками в глобальной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1036800" y="189000"/>
            <a:ext cx="7716600" cy="15667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611280" y="2494080"/>
            <a:ext cx="81374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плеск кибербуллинга приходится на среднюю школу. В основном жертвы и агрессоры имеют возраст от 10 до 15 лет. Впоследствии уровень агрессии спада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 не менее преследованию могут подвергаться лица всех возрастных категор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3"/>
          <p:cNvSpPr txBox="1"/>
          <p:nvPr/>
        </p:nvSpPr>
        <p:spPr>
          <a:xfrm>
            <a:off x="1332000" y="270000"/>
            <a:ext cx="6410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ормы кибербуллинга</a:t>
            </a:r>
            <a:endParaRPr b="0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684360" y="1849320"/>
            <a:ext cx="813564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леймин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аррасмент (гриферство, троллинг, киберсталкинг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кстин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еве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дачу себя за друг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крытие секретов и мошенничеств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684360" y="846000"/>
            <a:ext cx="4572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лейминг (англ. flaming — воспламенение), который начинается с оскорблений и перерастает в быстрый эмоциональный обмен репликами, обычно публично, реже в частной перепис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5364000" y="3484440"/>
            <a:ext cx="331164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7"/>
          <p:cNvSpPr/>
          <p:nvPr/>
        </p:nvSpPr>
        <p:spPr>
          <a:xfrm>
            <a:off x="324000" y="545472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465120" y="277920"/>
            <a:ext cx="360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арассмент (англ. harassment — притеснение): это адресованные конкретному человеку обычно настойчивые или повторяющиеся слова и действия, которые вызывают у него раздражение, тревогу и стресс и при этом не имеют разумной це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4932360" y="284040"/>
            <a:ext cx="4032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иберхарассмент обычно выражается в повторяющихся оскорбительных сообщениях жертве, от которых она чувствует себя морально уничтоженной, которым она не может ответить по причине страха или невозможности идентифицировать преследователя, а иногда к тому же вынуждена оплачивать полученные сообщ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5" descr=""/>
          <p:cNvPicPr/>
          <p:nvPr/>
        </p:nvPicPr>
        <p:blipFill>
          <a:blip r:embed="rId1"/>
          <a:stretch/>
        </p:blipFill>
        <p:spPr>
          <a:xfrm>
            <a:off x="324000" y="4665600"/>
            <a:ext cx="4322520" cy="22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755640" y="704880"/>
            <a:ext cx="7993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иферы (griefers) — игроки, целенаправленно преследующие других игроков в многопользовательских онлайн-играх с целью отнять удовольствие от иг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"/>
          <p:cNvPicPr/>
          <p:nvPr/>
        </p:nvPicPr>
        <p:blipFill>
          <a:blip r:embed="rId1"/>
          <a:stretch/>
        </p:blipFill>
        <p:spPr>
          <a:xfrm>
            <a:off x="1692360" y="3146400"/>
            <a:ext cx="5759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611280" y="414360"/>
            <a:ext cx="813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роллинг» — публикация информации, которая вызывает тревогу, гнев или стыд. Публикуют негативную, вызывающую тревогу информацию на веб-сайтах, страницах социальных сетей, даже на мемориальных страницах, посвященных умершим людям, провоцируя сильную эмоциональную реак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1511280" y="2303640"/>
            <a:ext cx="5653080" cy="42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468360" y="55872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иберсталкинг (cyberstalking; от англ. to stalk — преследовать, выслеживать) — использование электронных коммуникаций для преследования жертвы через повторяющиеся вызывающие угрозы противозаконных действий или повреждений, жертвами которых могут стать получатель сообщений или члены его семь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" descr=""/>
          <p:cNvPicPr/>
          <p:nvPr/>
        </p:nvPicPr>
        <p:blipFill>
          <a:blip r:embed="rId1"/>
          <a:stretch/>
        </p:blipFill>
        <p:spPr>
          <a:xfrm>
            <a:off x="1116000" y="3006720"/>
            <a:ext cx="69120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504720" y="774720"/>
            <a:ext cx="40672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екстинг (sexting, от англ. sex — секс и text — текст) — это рассылка или публикация фото- и видеоматериалов с обнаженными и полуобнаженными людьм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Секстинг» — процесс обнародования материалов с изображением или видео обнаженных люде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4986360" y="1351080"/>
            <a:ext cx="3673440" cy="36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395280" y="341280"/>
            <a:ext cx="345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остранение клеветы (denigration): это публикация и рассылка унижающей и ложной информации о человеке, его искаженных изображений, в частности в сексуализированном и/или наносящем вред его репутации виде,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5013360" y="341280"/>
            <a:ext cx="3654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эм-буки – тетради, в которых одноклассники размещают различные рейтинги и комментарии — «кто самая красивая девушка в классе», «кто одевается хуже всех» и т.п. Соответственно, «онлайн слэм-буки» — это созданные для развлечения сайты, где одноклассники публикуют подобные рейтинги и комментарии, часто грубые и неприятные, например, «Худшая парочка класс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4" descr=""/>
          <p:cNvPicPr/>
          <p:nvPr/>
        </p:nvPicPr>
        <p:blipFill>
          <a:blip r:embed="rId1"/>
          <a:stretch/>
        </p:blipFill>
        <p:spPr>
          <a:xfrm>
            <a:off x="476280" y="3767040"/>
            <a:ext cx="4114800" cy="28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50920" y="1927080"/>
            <a:ext cx="3578040" cy="39466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555480" y="5210280"/>
            <a:ext cx="3014640" cy="682560"/>
          </a:xfrm>
          <a:prstGeom prst="rect">
            <a:avLst/>
          </a:prstGeom>
          <a:gradFill rotWithShape="0">
            <a:gsLst>
              <a:gs pos="0">
                <a:srgbClr val="a9a9a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780000" y="2143080"/>
            <a:ext cx="4968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 позволяет 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ться с друзь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ть доступ к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ся, встречаться с людь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вать н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1763640" y="270000"/>
            <a:ext cx="6372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тернет - мир широких 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можностей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395280" y="558720"/>
            <a:ext cx="388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аскрытие секретов и мошенничество включает распространение в сети личной, секретной, конфиденциальной информации о жертв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rcRect l="22894" t="0" r="20482" b="0"/>
          <a:stretch/>
        </p:blipFill>
        <p:spPr>
          <a:xfrm>
            <a:off x="4824360" y="560520"/>
            <a:ext cx="392436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7"/>
          <p:cNvSpPr txBox="1"/>
          <p:nvPr/>
        </p:nvSpPr>
        <p:spPr>
          <a:xfrm>
            <a:off x="1655640" y="414360"/>
            <a:ext cx="583272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тегории детей, 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нимающихся кибербуллингом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Прямоугольник 1"/>
          <p:cNvSpPr/>
          <p:nvPr/>
        </p:nvSpPr>
        <p:spPr>
          <a:xfrm>
            <a:off x="395280" y="1494000"/>
            <a:ext cx="8353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«ангел мести» (ощущает себя правым, часто мстит за то, что сам оказался жертвой буллинга в школе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«жаждущий власти» (похож на традиционного преследователя со школьного двора, хочет контроля, власти и авторитета, однако может быть меньше и слабее сверстников, либо может вымещать свою злость и беспомощность, оказавшись в состоянии уязвимости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«противная девчонка» (может быть и девочкой, и мальчиком; занимается кибербуллингом ради развлечения, связанного с испугом и унижением других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«неумышленные преследователи» (включаются в кибербуллинг по инерции вслед за полученными негативными сообщениями о ком-то, часто в результате косвенной травли, в которую их вовлекают как свидетелей и соучастников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9"/>
          <p:cNvSpPr txBox="1"/>
          <p:nvPr/>
        </p:nvSpPr>
        <p:spPr>
          <a:xfrm>
            <a:off x="420840" y="363600"/>
            <a:ext cx="830232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ловия, способствующие росту и развитию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нного явления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Прямоугольник 1"/>
          <p:cNvSpPr/>
          <p:nvPr/>
        </p:nvSpPr>
        <p:spPr>
          <a:xfrm>
            <a:off x="420840" y="1525680"/>
            <a:ext cx="830232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тремительный рост информационных технологи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оступность информации во всех ее проявлениях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латентность кибербуллинга для взрослых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убликация в социальных сетях своей личной информаци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вокационные действия самих жертв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езнаказанность со стороны администрации сайтов и закон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тсутствие компьютерной компетентности, киберэтики у подростков вследствие недостаточного их информирования о безопасности при пользовании интернет технологи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2" descr=""/>
          <p:cNvPicPr/>
          <p:nvPr/>
        </p:nvPicPr>
        <p:blipFill>
          <a:blip r:embed="rId1"/>
          <a:stretch/>
        </p:blipFill>
        <p:spPr>
          <a:xfrm>
            <a:off x="485640" y="2286000"/>
            <a:ext cx="8172720" cy="4017960"/>
          </a:xfrm>
          <a:prstGeom prst="rect">
            <a:avLst/>
          </a:prstGeom>
          <a:ln w="0">
            <a:noFill/>
          </a:ln>
        </p:spPr>
      </p:pic>
      <p:sp>
        <p:nvSpPr>
          <p:cNvPr id="114" name="WordArt 3"/>
          <p:cNvSpPr txBox="1"/>
          <p:nvPr/>
        </p:nvSpPr>
        <p:spPr>
          <a:xfrm>
            <a:off x="1366920" y="558720"/>
            <a:ext cx="64101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https://classgames.ru/</a:t>
            </a:r>
            <a:endParaRPr b="0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9280" y="3727080"/>
            <a:ext cx="799308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Надеюсь, что предоставленная информация, помогающая узнать об опасностях в Интернете и о том, как им противостоять будет в дальнейшем полезна вам и вашим детя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627280" y="485640"/>
            <a:ext cx="3990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в заключении...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95280" y="1206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Ребенок должен усвоить мысль, что Интернет – это друг, и если правильно с ним «дружить», можно извлечь из этого много пользы. А правильно «дружить» с ним научить может только взросл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2" descr=""/>
          <p:cNvPicPr/>
          <p:nvPr/>
        </p:nvPicPr>
        <p:blipFill>
          <a:blip r:embed="rId1"/>
          <a:srcRect l="0" t="7955" r="0" b="0"/>
          <a:stretch/>
        </p:blipFill>
        <p:spPr>
          <a:xfrm>
            <a:off x="1060560" y="279360"/>
            <a:ext cx="7021440" cy="64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39280" y="1638000"/>
            <a:ext cx="828036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ждым годом сообщество российских интернет-пользователей молоде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1258920" y="414360"/>
            <a:ext cx="65055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ти и подростки - активные </a:t>
            </a:r>
            <a:endParaRPr b="1" i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льзователи Интернета</a:t>
            </a:r>
            <a:endParaRPr b="1" i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900000" y="2498760"/>
            <a:ext cx="7972560" cy="45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287280" y="414360"/>
            <a:ext cx="856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ловам Р. Махаффи, исследователя криминолога из отдела киберпреступлений преступлений с использованием информационных технологий Министерства юстиции штата Миссисипи, - Интернет — это Дикий, Дикий Запад XXI в., в котором постоянно встречаются волнующие приключения, опасности и бандиты: хотя пули, летающие в Интернете, ненастоящие, они все равно могут ран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1979640" y="286236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9"/>
          <p:cNvGrpSpPr/>
          <p:nvPr/>
        </p:nvGrpSpPr>
        <p:grpSpPr>
          <a:xfrm>
            <a:off x="7236000" y="5743440"/>
            <a:ext cx="1079280" cy="1079640"/>
            <a:chOff x="7236000" y="5743440"/>
            <a:chExt cx="1079280" cy="1079640"/>
          </a:xfrm>
        </p:grpSpPr>
        <p:sp>
          <p:nvSpPr>
            <p:cNvPr id="60" name="Oval 17"/>
            <p:cNvSpPr/>
            <p:nvPr/>
          </p:nvSpPr>
          <p:spPr>
            <a:xfrm>
              <a:off x="7236000" y="5743440"/>
              <a:ext cx="1079280" cy="1079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7451640" y="6175440"/>
              <a:ext cx="647280" cy="287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Прямоугольник 1"/>
          <p:cNvSpPr/>
          <p:nvPr/>
        </p:nvSpPr>
        <p:spPr>
          <a:xfrm>
            <a:off x="4950000" y="701640"/>
            <a:ext cx="379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ая безопасность — как состояние сохранности психики предполагает поддержание определенного баланса между негативными воздействиями на человека окружающей его среды и его устойчивостью, способностью преодолеть такие воздействия собственными ресурсами или с помощью защитных факторов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250920" y="701640"/>
            <a:ext cx="39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езопасность» определяется как состояние защищенности жизненно важных интересов личности, общества и государства от внутренних и внешних угро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5" descr=""/>
          <p:cNvPicPr/>
          <p:nvPr/>
        </p:nvPicPr>
        <p:blipFill>
          <a:blip r:embed="rId1"/>
          <a:stretch/>
        </p:blipFill>
        <p:spPr>
          <a:xfrm>
            <a:off x="539640" y="2722680"/>
            <a:ext cx="3799080" cy="37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5"/>
          <p:cNvSpPr txBox="1"/>
          <p:nvPr/>
        </p:nvSpPr>
        <p:spPr>
          <a:xfrm>
            <a:off x="611280" y="270000"/>
            <a:ext cx="8115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ятие буллинг и кибербуллинг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611280" y="201780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буллингом понимается преднамеренное систематически повторяющееся агрессивное поведение, включающее неравенство социальной власти или физической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5148360" y="2019240"/>
            <a:ext cx="3578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кибербуллингом понимается намеренное, опосредованное и агрессивное действие либо поведение, осуществляемое группой либо индивидом с применением информационных и коммуникативных технологий в качестве инструмента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"/>
          <p:cNvPicPr/>
          <p:nvPr/>
        </p:nvPicPr>
        <p:blipFill>
          <a:blip r:embed="rId1"/>
          <a:stretch/>
        </p:blipFill>
        <p:spPr>
          <a:xfrm>
            <a:off x="611280" y="3990960"/>
            <a:ext cx="4122720" cy="27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539640" y="414360"/>
            <a:ext cx="80647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обенность информационных процессов в Интернете состоит в том, что оттуда ничего никуда не исчезае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потому даже непроверенная стигматизирующа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от греч. —«ярлык, клеймо») информация остается там навсег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2286000" y="3738600"/>
            <a:ext cx="423072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5"/>
          <p:cNvSpPr txBox="1"/>
          <p:nvPr/>
        </p:nvSpPr>
        <p:spPr>
          <a:xfrm>
            <a:off x="611280" y="270000"/>
            <a:ext cx="7993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ерты кибербуллинга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Прямоугольник 1"/>
          <p:cNvSpPr/>
          <p:nvPr/>
        </p:nvSpPr>
        <p:spPr>
          <a:xfrm>
            <a:off x="630360" y="1566720"/>
            <a:ext cx="62467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невременность и повтор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онимность преследовател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истантност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льшое количество свидетелей и их анонимност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ультимедийност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осредован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4" descr=""/>
          <p:cNvPicPr/>
          <p:nvPr/>
        </p:nvPicPr>
        <p:blipFill>
          <a:blip r:embed="rId1"/>
          <a:stretch/>
        </p:blipFill>
        <p:spPr>
          <a:xfrm>
            <a:off x="5003640" y="4122720"/>
            <a:ext cx="394200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5"/>
          <p:cNvSpPr txBox="1"/>
          <p:nvPr/>
        </p:nvSpPr>
        <p:spPr>
          <a:xfrm>
            <a:off x="611280" y="270000"/>
            <a:ext cx="8208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тистические данные о 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пространенности явления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ибербуллинг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AutoShape 7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"/>
          <p:cNvSpPr/>
          <p:nvPr/>
        </p:nvSpPr>
        <p:spPr>
          <a:xfrm>
            <a:off x="324000" y="2092320"/>
            <a:ext cx="864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российским данным, 78% детей (т.е. практически все горожане) от 6 до 18 лет ежедневно пользуются Интерн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72% подростков имеют персональный профиль в социальных сет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80% российских детей выкладывают в сеть свою фамилию, точный возраст, номер школы, и у трети опрошенных детей настройки профиля позволяют всем видеть личную информацию о пользователе; за рубежом 62% детей выкладывают в общий доступ личные фотограф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обсуждении гипотетического поведения при возникновении неприятной ситуации в Интернете 77% 6–9- летних детей отвечают, что обратятся за помощью к родителям, а среди 15–17-летних 54% планируют справляться с проблемой самостоятельно, при этом не указывая, как им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19:23:27Z</dcterms:created>
  <dc:creator>user</dc:creator>
  <dc:description/>
  <dc:language>en-US</dc:language>
  <cp:lastModifiedBy>User</cp:lastModifiedBy>
  <dcterms:modified xsi:type="dcterms:W3CDTF">2022-09-29T05:49:32Z</dcterms:modified>
  <cp:revision>95</cp:revision>
  <dc:subject/>
  <dc:title>Родителям о безопасности в Интерн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140000000000010243100207f6000400038000</vt:lpwstr>
  </property>
</Properties>
</file>